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DE4E254-A59E-4DC6-A246-F26CD1617A6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FE4E6FA-D0C3-47AA-A027-04ADB52D4C4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1CD-5D8C-4FF9-9498-63D81364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D7A-0BCE-4AA9-AA09-3A2B797B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C0BF3D-BCD0-47DA-B99C-4A6F739CACC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4B1297-591A-4C20-8925-2E4F6BFCC84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C4EE09-FC0E-43A1-A5FA-3988CFDF580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35A743-56AD-4059-801E-D6855A18D0E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DC80B8-47B4-48CE-97F3-7C6B6F6AD8A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58C852-CD9C-4C8D-BFEA-5B559E96DB1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B2D764-DD30-43D1-B09D-0D27489BC15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3DDA97-ED2D-450B-8E97-64D91EAF232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B3B7AF-717C-412D-9E90-70A7607428D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AC876-46ED-4F37-A1C3-EA3030832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442-6534-4BE1-8861-1B9B700D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976CC0-35AB-43A7-BFF8-AA16E42695A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30E065-42A8-4CB0-ACD9-AC9404FF3D8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1BBFB-46ED-4565-B9EB-5DBE171F5CF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F8F46C-498F-458E-8439-32EDC19F216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7BC393-5EF3-439D-B40E-16CA773BAF5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CB470A-AC0A-4623-BBED-C765DD4A889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1846B-4988-407D-978B-268A4742BE1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F5EE42-22CF-44FD-B641-90957C9E05B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7F00A9-4317-430A-9B11-59EF903FAD3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CF3D32-7389-44C0-A2FE-823A2FF19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27B-CEC8-4055-804E-E2779DF0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852DCB-3E7B-4DE6-A8BC-B242C3FCF60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9263C-3FB0-4B02-88DE-B566FAC8667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7AF2A-8EF8-4503-9E89-E920B829A6A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E1056-1E79-4318-BD15-FD0C4AD1BAA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6ED11-B6FC-44B5-92D5-4A30368C076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84F6F-6AAC-494B-81FE-D9E631A48E3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8C091-976C-4EEA-A898-89834E61EAE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72A91-16B6-445E-9917-4A0D48F08BB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6A019-E01A-4833-8634-6F604104D9B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DA322-80B9-483E-AC85-CFF1E162B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5093D-63EF-41B8-B513-D9406338C17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449EE-6BB1-41BA-B1EE-28C06BA2360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5F499-72AA-4A4A-8C02-CF2248AF637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9D451D-DD55-4E7E-80E0-77B30401621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477105-5245-4F5E-8EF1-E429C71052A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CD29EA-FCD1-4188-B7D3-FAE8D9D9BB8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8A354D-07A8-4123-A411-AA31910A8C0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9F34B4-E7FD-4E8B-98C0-FB1FECD02EC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A84113-A83C-484B-859E-D06E2871B80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A7E08A-4DAA-482D-9AC4-E73C85F1D6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77C94D-95C0-4390-B7EF-13AEA603336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A54DA4-89E4-4B75-B434-564F4C2C79C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264D46-76B9-4D32-84AB-B884F24F341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EB9E62-5102-42DB-8C64-D410876ADB6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C88129-51A8-44A4-BD67-E05E4F82725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1FF058-36F5-4E0A-AB4E-BF4DD994729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0B4475-DA0C-4286-A8A5-B8E2EF97B41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13052D-62EE-4FF3-B2EA-9FE3CD4E0DA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726CD-9EEA-43C3-925D-9323760812F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9E2FE-2792-4F9E-8A5D-9AEC405A83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B1CFF-D682-4BFD-A89C-B0163E75B8C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106373-6598-46BA-A203-9748E179658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4CB68-DBBD-4199-8D7B-F8E11AD2283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6D7F69-98C5-40BC-83A6-69D0DBD1928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159D39-6086-46E9-A74C-E8F48320514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EAEA3-6A48-4FD3-9551-B90AD0BC6F5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9380E-F0EB-425B-A11C-56809407764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68C7A-0084-4596-820D-1F6A1AA0CC9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78550-FC55-488E-95E5-66308D706B2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B9272-8CAD-4E05-9656-9F13EC3899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691F0-47E2-48EE-B688-87D1CF56583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439E0-793E-4D75-B8DB-51606FF2933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5F593-D1A9-43D5-88EA-A4BD2F02A4A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41563-E2A9-4AED-9210-866F9DDACB6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22695-C60E-4252-8A87-6470B262B69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03FA7-B1BD-431B-848E-4F0C0319D1C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75917-B313-40D9-AE1A-0A117AE5996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C1247-EB6B-4B69-AF75-264865D910B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D5469-596A-4328-B10C-524BBD7BE91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43961D-5A2B-4990-A58B-57DE46056B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1F2A76-272D-44D3-B10F-E4C7F6BCBC0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B746F8-478D-416A-AB5B-C58DE310573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AA7A2B-FEF5-49C5-B27B-09C5028A89E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CF2A0B-9F72-4CF2-82C3-E39ECC0943C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1F8179-6C70-48CB-AD8A-EF372543F03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AD5803-B539-4587-AC0D-91E74DDE6C7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BBB477-104D-4357-9785-E7D24C26261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CAD610-52F0-4466-8714-EADE1A09A40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C97274-A396-4821-A9B5-9993230A174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908858-2AA3-449D-A380-DF44A650E2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F0C5E5-5092-4A0D-8E1D-E0CFEE63346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D43B6-ECCA-47E4-BAD5-90FEF322DEE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2C418E-48DC-4FCF-A56A-A5A9CB5C821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31ED67-7B15-4FB1-B68E-396FEF7D5D2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A38102-F920-4EEC-8409-68E6EEC7B62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3BC920-9695-4689-9BF4-66E0A38E828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146CE9-554B-4088-B267-B645711F47F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C0087-D2C0-4174-9F46-EA5730B66D3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3F4D6D-015A-4357-8F33-492608D4AA2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FE0A11-30CB-4D73-96EA-0239FAFCE3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EA195-1AED-470E-B8DB-561C30BF96D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0145F-7B9E-4F25-9835-FEA3EA5136F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EBB7D1-4343-4BAA-9F3E-BAE788E555E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B30-1939-4778-9B0D-EA199A93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077CA-D4BA-429A-97F4-733BFEA7A1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6CBB6-B373-4B94-B9D3-64E089FCE2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8B13A-8506-4635-A1EF-6476005796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F99B6-EB44-4614-AC28-27C2D2210D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F0DE3-E0A0-405F-88E2-C8EDCC3684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171-45F8-4162-A1D0-381DDD2B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3BDFF-FD7B-45B1-B1E8-3D7262EE3C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CFDD5-5F79-48F6-92B0-E1CA2DC3F1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DAFD5-F08F-4936-B9E5-6A848F2000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E9DC4-E1C5-4F98-B54B-0FA67A5AC5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7A215-40B6-4E82-ABEF-F94D57C7D8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93B2E-26B5-4D1C-B199-39127EAAD8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41112-60DB-40D6-AA4C-7F8CC2FB98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0D93D-0099-4ECF-B13F-089B150F34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FF201-A743-481A-A32A-B2359B45DA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B05E3-762D-4842-964B-95E81046B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033-F431-444A-AFD1-6DA5915B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1AA7A-E5F6-4639-85F1-C71B8BA823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EBB91-20D4-41A9-8BD4-3E8443844F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1DC70-5885-4826-B3E6-35B29039FC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A24C6-3ADB-45A8-BAD5-17AD5BB6C1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C9CAC-597F-4CEE-9005-39C0C0F3F9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95C9C-CE08-43BD-8D40-280125E79F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A7B46-1A06-4BA8-B503-12363E59F7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4039A-C6E4-4E74-95DA-4991F33E98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6A5D8-1248-46D4-B8FD-6751E7D18E9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8B7A-D84F-4D0C-A972-E19E45C6E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0E7-5F23-48D0-BE23-BEFB65FC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BAD2-A9FF-46DC-9D43-B682F0FA056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B3FA-CE79-460A-9F09-D7D3B4E42CF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C381-CFE5-4D3C-8504-723561C87B7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6EBC-890C-4397-82AF-B1FEE1F3D78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706A-5314-4647-A5DE-08EF488CD76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1D09-3672-419F-BEEB-6068F0D101A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3165-7AAA-470D-AB36-23575896EAD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D9AF-4593-4BD0-ADE7-1A5DD603F9E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6885-8818-4815-B608-DD44A4074C2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8603-670E-44C5-ACF0-BCAC3D5B4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7DE-8876-4941-A4A2-8B275011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7A8C-577F-4C9D-BE7D-1FC45F9E825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89A901-5B9C-4F8A-A067-A907F344B86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024091-C7C1-4590-9098-1A285B6604C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833B61-AD6F-4E63-ABE8-5B3590DBF37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080CA8-4025-468E-8DD5-1CFF2EB20E9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D66779-B75A-4E2E-BE88-3E1FF332C76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48BF41-0F78-43D5-AE05-CAB6EABF75A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EA68FA-A811-4E34-AC63-A069DC117D8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C44E77-904A-46DD-9ECD-429F1A6A5B5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D11929-5036-4B03-8E85-3D2BF997D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F75-9F88-4507-9C3B-41EC965A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766383-5164-47FF-8144-E392B7797E2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AC560D-8FCC-4BDF-9AF9-DAE780E7F58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EDCFE8-4531-4AFF-8E76-C6670D42996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7427A-8D2E-43D8-A6D8-250D0DBB96D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093DD-CDA8-4E79-82F2-3A09AE36BB5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DEA72-6962-4B99-A0C1-28E4590C99C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A1CB5-667D-4C11-ADEA-858681D9548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B44FF-79B9-435E-A1A1-A917DD3EC37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7B3B9-0F9D-4A6D-801D-CB75913090B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B17E4-FE54-4F17-9688-E415A7698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67A-DB62-4C14-984A-C4282309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5F992-871F-4513-BC2E-9F87A08570B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10BB0-BE9F-40E5-85E4-B6BFFA5826C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8DA07-EED8-46BC-9BFC-A79E5BA31C5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C2A4F-1028-432C-B283-E208577B4EB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F42A8-AC7B-45D4-92AE-F90225D6ADA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D3D58-A5AB-4E2D-B4CF-6B15EAF4408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7B6B0-7AF0-4D8E-9CF1-B18D31AD8C6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1D300-90C7-4225-94F0-1FDAAF7EDC4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A069D-F6DE-4AD5-ABC2-E6AC75C7606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E0C9-D543-416E-B030-D0BFD5208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29B-F24F-429C-BF91-C42AC292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2E7DD-DE13-478B-BF39-448A0D21655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10419-376D-4F6A-A034-36D61757362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7F91A-CBB2-4D33-BC54-CEF7B85307B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97445-0126-471B-9FE1-39115458696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3C3FA-DF6C-4BF8-9F21-06075F57BEB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E4F56-F0F5-45B3-837C-858BFDF09AE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E5B96-7C93-4420-BA9D-A1FAD17D222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CC8DB4-3212-4C96-9867-D37F4287DE1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86A2F2-065B-4BB9-8D69-A09126C63CA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A3F6D-6447-46E9-AB82-7A0066429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219C24A-E046-4B4B-9B51-04C94497800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74C14EA-DA32-404E-BA3F-FE6A6D3CEC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AF08D2C-F047-46D9-9AEC-016C7E64437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1776BF6-DBB2-4ED2-9E6D-E90B046A904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2266FC0-904C-45F8-A55B-7D0B5578FF1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CA0AEE-16E7-48A4-9F75-829E866B798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75DB672-420A-44BF-BC56-6A8F1AE1760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719A76-C10D-4B27-B5AD-AEFE3814ECB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CF5966E-FBC2-4358-A579-FA81CC908F0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A4C301F-F8D6-4419-8970-D13D3C7675E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87909C-51F6-48D4-9D8C-F90CE721519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4265DDF-2A75-45F2-8E58-9223CC2C169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376A1C-B99C-479E-BEFB-B5588FD9227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AFD8BF6-E9B9-49E8-BE0C-2E5242DA468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8147710-A21B-47CC-A3B3-1A00A714D5E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095D477-F61C-4FA0-AB5C-1AE0DB8EFAA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hkdir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diku.no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diku.no/espresso/login?1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diku.n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 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A17B784-CCD0-4A41-8CA3-9F64A1EAE4E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05D3761-3FAE-48FD-8A11-7B0D3E77163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52A8377-618F-453E-A113-DA5CCD648B9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60861FA-8D5F-442E-818C-4539FD74F8D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hkdir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Content Placeholder 1" descr=""/>
          <p:cNvPicPr/>
          <p:nvPr/>
        </p:nvPicPr>
        <p:blipFill>
          <a:blip r:embed="rId1"/>
          <a:stretch/>
        </p:blipFill>
        <p:spPr>
          <a:xfrm>
            <a:off x="1865160" y="981000"/>
            <a:ext cx="7010640" cy="5011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83320" y="4871880"/>
            <a:ext cx="2752560" cy="11242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" descr=""/>
          <p:cNvPicPr/>
          <p:nvPr/>
        </p:nvPicPr>
        <p:blipFill>
          <a:blip r:embed="rId4"/>
          <a:stretch/>
        </p:blipFill>
        <p:spPr>
          <a:xfrm>
            <a:off x="5722920" y="3594240"/>
            <a:ext cx="315612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2" descr=""/>
          <p:cNvPicPr/>
          <p:nvPr/>
        </p:nvPicPr>
        <p:blipFill>
          <a:blip r:embed="rId2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50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Picture 1" descr=""/>
          <p:cNvPicPr/>
          <p:nvPr/>
        </p:nvPicPr>
        <p:blipFill>
          <a:blip r:embed="rId2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7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pic>
        <p:nvPicPr>
          <p:cNvPr id="763" name="Picture 7" descr=""/>
          <p:cNvPicPr/>
          <p:nvPr/>
        </p:nvPicPr>
        <p:blipFill>
          <a:blip r:embed="rId2"/>
          <a:stretch/>
        </p:blipFill>
        <p:spPr>
          <a:xfrm>
            <a:off x="-755640" y="-44280"/>
            <a:ext cx="1096344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FA5312B-0F21-45B1-B239-E6C11BEF22E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3689C7-28D7-4C02-B050-F351D23805D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1-09-07T10:03:46Z</dcterms:modified>
  <cp:revision>147</cp:revision>
  <dc:subject/>
  <dc:title>PowerPoint Presentation</dc:title>
</cp:coreProperties>
</file>